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505-1D38-40CE-85B5-BFDF8BED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9CC-D65E-41A9-839C-1FA2154A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5B0-D064-44CF-8C4D-B826D9A5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4BF-E69C-4AEB-9914-BF1C141B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72DB-24FB-443C-B2AC-ABCC00EC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62B-CADF-458F-95CC-29419027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214F-B10C-4E53-BAA1-0F6EFE19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C2B-EA06-400E-BA1B-691368A2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057040" y="12204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D31-CB7F-417A-90DA-A2C8A08B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DF9-C2A5-4C4A-AC6B-7F8D0178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4EA8-0E2D-4958-BAC0-E70D42D7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A25-04FC-463B-B075-E14DD638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6894-B901-4D95-AE8C-FDC917868D9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1886-8F7A-4116-B029-56C4B8698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109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etwork Interface for the MSX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320004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Team # 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Bruno Barreya and David Reg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15228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EEL4914 Senior Design (Sp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EAM PROGRESS REPORT #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EB4C-9D58-43C7-A179-2C512D6E23F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10F03-3714-448B-9773-0B39424EFC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ject Over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card for an 8-bit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1980s, the MSX computer is similar to the Ata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e with a computer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the Crystal CS8900, PLA, and discrete components to build a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77240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76E-E3A2-4175-811B-27FB16056B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326D3-B518-4F03-B1E8-5B94EFC27F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gress to D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X computers were bought and sh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of all the compon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out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it design begun on Pro-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y working MSX computers are hard to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come problem: Divided work and coordinating meeting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229-3C4E-427B-8F74-827DE2DF63E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23764-0CAD-48E7-BD3A-CC74C357CF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asks will be the focus in the coming reporting peri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up the computers and test for fully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board design on Pro-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first prot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key challe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ors for the M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0496-5D05-463B-AB4A-FA6ADA9A4FF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9E976-AEE4-4787-9B1D-3EA48F91A3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dated Gantt Char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3657600"/>
            <a:ext cx="7162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rt should show your progress as of today’s date on each task enum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econdary bars, arrowheads, or darkened bars to indicate completed tasks, or the portions of tasks that have been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vertical line to represent the report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link on Gantt charts from class web page FY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600200"/>
            <a:ext cx="8534160" cy="464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071800" y="1600200"/>
          <a:ext cx="4795560" cy="22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600200"/>
                    <a:ext cx="4795560" cy="22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0CAE-B811-44F2-B7EC-AAF0767D2BA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A9B1F-92EF-4C8C-9D95-B440757786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1220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all Project Statu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2280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 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head of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ec900"/>
                          </a:solidFill>
                          <a:latin typeface="Arial"/>
                        </a:rPr>
                        <a:t>On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hind sched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40413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ehind sched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: by how many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your plan for getting back on schedule by the next reporting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5F3-7BFF-4926-8641-1470CC207D6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0FB29-A3F6-4D9E-80A8-350C83D30F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8T19:12:54Z</dcterms:created>
  <dc:creator>Dr. Alan D. George</dc:creator>
  <dc:description/>
  <dc:language>en-US</dc:language>
  <cp:lastModifiedBy>dave</cp:lastModifiedBy>
  <dcterms:modified xsi:type="dcterms:W3CDTF">2003-02-05T18:33:15Z</dcterms:modified>
  <cp:revision>20</cp:revision>
  <dc:subject/>
  <dc:title>Project Title</dc:title>
</cp:coreProperties>
</file>