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228-C0F8-4A16-A0C3-9F7C99BE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9C5-3DA4-4AA3-B0D1-558AE2BE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6FF-433E-4423-A7E2-327CD166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D18-509A-4520-9F0E-12639C67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6F2-842D-415C-BB4D-DB686C64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374-C221-4F0D-AB09-C10FFB8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54A-9A45-4262-8E7A-BE551FBB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3E1-C51B-406A-BEC3-6BF02A42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922-0F7C-4DFC-880B-BBFBBC74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CFC-7054-4DF7-822E-01E6C49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D59-1350-4C8B-A4CA-C340527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235-87A5-4933-9650-38159B7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1C67-64F0-4EE4-8AF1-D721DED1EE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631-2824-4C76-B9B3-EE170868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496-4DA1-46F7-8A69-617873A9C44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A3CC8-E57A-4334-8C73-92CAE388BD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project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your concept drawing 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is particular slide can be reused with eve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949-8E93-49C5-B00F-7D538BAF6C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DE33F-E5B0-4616-9E1D-A713F722BB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accomplishmen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key problems faced and over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accomplishments and problems overcome since last repor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D20-ECF9-4B2A-B02A-FA3472B635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1A963-FD11-4B4F-808B-78F1424FD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ks will be the focus in the coming report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39E-F920-4B7B-A9AF-ABA73B54C7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80328-8FB6-4DC4-B2CE-676BB747CC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803240"/>
            <a:ext cx="800100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67D-1647-461B-8D3F-9DA8C8CDD1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BE2A1-BF45-409F-9445-F2AC1177F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228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hin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: by how many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plan for getting back on schedule by the next reporting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924-24FA-4E64-8A88-1356847222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9273F-11D5-4C25-8D71-91A05BE29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3-04T00:15:34Z</dcterms:modified>
  <cp:revision>15</cp:revision>
  <dc:subject/>
  <dc:title>Project Title</dc:title>
</cp:coreProperties>
</file>