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C787-D7ED-444D-842C-A77221FA5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89AF-726A-4DFC-BEBC-126C1688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15C9-0855-44F7-904A-2325688D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E72A-EA69-4260-9D4C-BF2F5F4BB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E34C-ED8E-4D54-B201-0266A08C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4246-777A-4B27-8500-0604B05A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683E-0D0F-4AC6-96F1-C2FEF388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E3C7-2F47-4ABD-925C-14A4AD38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057040" y="12204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D4CA-419B-4E00-A643-5B20BBD2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5A8F-A812-4475-9774-E1B1F336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0116-5326-4E77-BFFC-F53106ED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CAE0-04B5-47BB-8179-D8E469F3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E3C3-AD04-419B-A1AB-CAE978CBB74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E4DC-138F-4495-BB03-E8988E683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1447920" cy="11098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amsx.org/course/2/logo-default.p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Network Interface for the MSX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9320" y="3200040"/>
            <a:ext cx="6858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3399"/>
                </a:solidFill>
                <a:uFillTx/>
                <a:latin typeface="Arial"/>
              </a:rPr>
              <a:t>Team # 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Bruno Barreyra and David Reg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152280"/>
            <a:ext cx="6629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EEL4914 Senior Design (Sp20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TEAM PROGRESS REPORT 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rcRect l="0" t="0" r="0" b="21226"/>
          <a:stretch/>
        </p:blipFill>
        <p:spPr>
          <a:xfrm>
            <a:off x="2590920" y="2362320"/>
            <a:ext cx="1218960" cy="79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73FF-68BA-47E2-87D5-58D9826FDB6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B94418-BC12-415B-B410-DFD592497A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1828800" cy="1128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7772400" cy="3581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ject Over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1523880"/>
            <a:ext cx="6477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ernet card for the MSX, an 8-bit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X computer is similar to the Atari 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e with a computer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the Crystal CS8900, PLA, and discrete components to build a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CC07-6790-4D31-BDF7-875017EE01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9D9C6-D411-4EFA-A6D8-05D74E1608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gress to Dat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more decoding logic from MSX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using Altera board so need digital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ed digital parts for decoding – 7432 Quad 3 input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problems overca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ing all of the Gnatt chart in Power Point and finding percentage complet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ing the number of parts needed for de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5EAF-F890-4033-BEED-F534545830D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23D75D-6790-4FBE-A045-067242BB5D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urrent Work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ntory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B footpr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challen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footprints for parts that are not in the Protel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the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BBAA-7606-4A67-B8F3-6807EE23934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CF37DC-9892-45E7-8FD3-6219D7FA37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pdated Gantt Char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600200"/>
            <a:ext cx="8534160" cy="4648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07960" y="1600200"/>
          <a:ext cx="83311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1600200"/>
                    <a:ext cx="8331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2971800" y="2133720"/>
            <a:ext cx="0" cy="3581280"/>
          </a:xfrm>
          <a:prstGeom prst="line">
            <a:avLst/>
          </a:prstGeom>
          <a:ln w="158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2317680" y="49971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F14B-F316-46D6-B214-D42130BE6B28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13550D-32D0-4037-A500-0397FB629E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verall Project Statu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00200"/>
          <a:ext cx="8229600" cy="2281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 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head of schedu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c900"/>
                          </a:solidFill>
                          <a:latin typeface="Arial"/>
                        </a:rPr>
                        <a:t>On schedu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ehind schedu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404136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ind schedu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: 4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B fabrication won’t take as long – 5 days turn around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 assembly will be done at Lab, not sent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E62A-B65D-4291-BE89-1B13040AB31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C382CE-D7BE-4702-9ED1-561A1DFD3E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8T19:12:54Z</dcterms:created>
  <dc:creator>David Regal</dc:creator>
  <dc:description/>
  <dc:language>en-US</dc:language>
  <cp:lastModifiedBy>dave</cp:lastModifiedBy>
  <dcterms:modified xsi:type="dcterms:W3CDTF">2003-03-05T00:51:48Z</dcterms:modified>
  <cp:revision>25</cp:revision>
  <dc:subject/>
  <dc:title>Project Title</dc:title>
</cp:coreProperties>
</file>