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234-E2A0-4B5F-9F16-263B04C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496-E057-4120-9307-1167314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873-5B80-487D-8DEF-87C73311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31D-D189-4CAE-B58D-C2CB25FA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D87-74FC-4DE2-9A0A-08D78AF7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095-2961-4495-8977-CCF7BDD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4E5-CCC9-4058-9392-249602F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120-71E9-4184-9E65-111431AC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80D-0765-4C6B-BB3A-75B57EAF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13A-297A-4D4F-9E0C-1504300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18C-D01B-448A-A092-4A15073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49F-20DD-4613-AD82-CF75C429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2C04-6512-49D6-BA0F-AE2541EAC3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E70-1643-4B27-817C-EE7A9B7E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A61-7D3D-44B9-9834-88DEAFCF68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80A31-D72B-4F20-AD50-5F1246CD1F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your project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your concept drawing 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is particular slide can be reused with eve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F9C-7023-45A8-8CEC-693F788A83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12A03-BEBD-497A-A958-15A0978EFE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all accomplishmen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key problems faced and over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accomplishments and problems overcome since last repor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678-A84D-4ED0-84D0-ADF4170DC5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CF1DB-E5D5-4F5E-98DB-6EB253E564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ks will be the focus in the coming report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6DE-250B-45EC-9C58-127706E43C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D0840-808A-4D82-9783-DB76CE3B1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EFE-E81F-4908-A7D0-3C59C05EED5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9AE1D-EC9A-437F-BF7C-E44A3E497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228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hin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: by how many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plan for getting back on schedule by the next reporting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B6F-9BE9-4803-8642-21CF070175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5528A-80D9-4805-A641-4BD01E87B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3-04T00:09:42Z</dcterms:modified>
  <cp:revision>14</cp:revision>
  <dc:subject/>
  <dc:title>Project Title</dc:title>
</cp:coreProperties>
</file>