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E61-78AA-4547-AEA0-93B2640E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6AF-3CEC-4F1A-BF57-C02C7956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41A-B93B-4F3E-81D0-9851D989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0D4-BEFE-47E2-9AF4-81B4657B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4F9-0567-4F5C-B639-4CF286E8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E821-7524-4314-A22A-94F5DA13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849-1611-4551-8827-DF28FC91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D50-43A1-4DA1-914B-036C611B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57040" y="12204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835-F3DF-42BD-9C1A-4C795756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6DA-7928-4D7E-8FDF-98BB74DB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3FE-F33F-4680-ADAA-7A0A298B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EA0-8F55-47FF-B409-C0340830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F0F5-C7EC-41A5-821D-14393D0B46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2DF3-0B44-44CB-8FF4-3E5C32800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109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etwork Interface for the MSX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20004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Team # 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Bruno Barreya and David Reg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5228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EL4914 Senior Design (Sp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EAM PROGRESS REPORT #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7E4-BCD1-4E6A-89B5-57394C0177D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2E725-6784-479B-AF10-E2E7E3C02E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ject Over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card for an 8-bit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1980s, the MSX computer is similar to the At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e with a computer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e Crystal CS8900, PLA, and discrete components to build a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77240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63F-E53D-4227-9814-ABA215F98E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2DE69-BEA4-49AF-906C-7D08D64704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gress to D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X computers were bought and sh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of all the compon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out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it design begun on Pro-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y working MSX computers are hard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come problem: Divided work and coordinating meeting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408-3313-49F7-AB65-5D3ACAA828F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55939-50C7-4B01-8240-8837906D56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asks will be the focus in the coming reporting peri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the computers and test for fully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board design on Pro-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first prot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key challe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ors for the M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4A4-C8A7-4E69-AFC3-04162A5876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C1A8C-53C2-40B9-8D39-C17C685F2E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dated Gantt Cha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052720"/>
          <a:ext cx="8763120" cy="26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2720"/>
                    <a:ext cx="876312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0" y="1676520"/>
            <a:ext cx="167652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0" cy="2286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1936440" y="4082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676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409-83E4-4D13-AA38-A31A8FE7F85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64851-8AC6-46A6-A904-EE5DAB3A81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all Project Statu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2280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head of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c900"/>
                          </a:solidFill>
                          <a:latin typeface="Arial"/>
                        </a:rPr>
                        <a:t>On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hind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0413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ehind sched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: by 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plan for getting back on schedule by the next reporting period? Working more during the week. Not just on week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F57-BCE4-4161-8A97-DA5A9F2A72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64C31-CEE1-4099-B3E6-289185BB0A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9:12:54Z</dcterms:created>
  <dc:creator>Dr. Alan D. George</dc:creator>
  <dc:description/>
  <dc:language>en-US</dc:language>
  <cp:lastModifiedBy>dave</cp:lastModifiedBy>
  <dcterms:modified xsi:type="dcterms:W3CDTF">2003-02-05T18:55:32Z</dcterms:modified>
  <cp:revision>24</cp:revision>
  <dc:subject/>
  <dc:title>Project Title</dc:title>
</cp:coreProperties>
</file>