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D1B-04FC-4A87-93D4-97E3A89D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AC7-B634-44C0-955C-68CCE6E7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E6F-3D30-4A2F-B47E-FDF1B96C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2A4-7D19-4662-9F93-ED0BA936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D82-EBFB-422D-B547-53C47892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AEF-76A2-445C-9D58-C9389B5B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BD3-43D3-44B2-8AC4-2004FBC0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533-28F4-4ED4-B4E0-0A63EA1D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192-C4C7-4873-891C-99239CBE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FC3-F9D8-4A89-B0D8-8D3F9A9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4CE-C5F6-42EE-B58B-E5C966CF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F1E-9C2B-4976-8936-8666F73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2A6E-5326-4A66-B6BA-703682924A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3C16-017B-4EC3-A22C-CCBC2453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amsx.org/course/2/logo-default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r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0" t="0" r="0" b="21226"/>
          <a:stretch/>
        </p:blipFill>
        <p:spPr>
          <a:xfrm>
            <a:off x="2590920" y="2362320"/>
            <a:ext cx="1218960" cy="7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5B7-60ED-4423-9957-F4C48747A3B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7A63E-6999-4E77-A733-A8DE821463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82880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7772400" cy="3581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1523880"/>
            <a:ext cx="64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card for the MSX, an 8-bit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X computer is similar to the Atari 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with a computer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Crystal CS8900, PLA, and discrete components to build a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A05-D442-4D3A-B9B7-319ED8DFB4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250F8-9C4D-45F1-81E3-9DBBF36033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more decoding logic from MSX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sing Altera board so need digital IC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digital IC part for decoding – 7432 Quad 3 input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o schema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IC 74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X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x RJ-45 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roblems overc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ing all of the Gnatt chart in Power Point and finding percentage complet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the number of parts needed for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D2D-1D36-4D04-81FA-7214614EC9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8EBAB-6485-4E51-8191-F7D571900C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lete schemati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9600" t="3032" r="7040" b="2021"/>
          <a:stretch/>
        </p:blipFill>
        <p:spPr>
          <a:xfrm>
            <a:off x="228600" y="1600200"/>
            <a:ext cx="6416640" cy="462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contrast="10000"/>
          </a:blip>
          <a:srcRect l="39615" t="22924" r="13205" b="0"/>
          <a:stretch/>
        </p:blipFill>
        <p:spPr>
          <a:xfrm>
            <a:off x="5715000" y="3352680"/>
            <a:ext cx="3276720" cy="2484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5480" y="5257800"/>
            <a:ext cx="2743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43400" y="51814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486400" y="56386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438280" y="4572000"/>
            <a:ext cx="4191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876920" y="3962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5720" y="43005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-p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952880" y="3048120"/>
            <a:ext cx="3353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172200" y="3047760"/>
            <a:ext cx="22096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18F-DFFE-4179-B894-82EE2A4BBE2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FF213-4CD2-4A2A-AACC-61DD61AAF4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B footpr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footprints for parts that are not in the Protel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C58-B359-473B-A66E-43FDA65C5E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0738A-E779-4820-AA65-955EF139D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04920"/>
          <a:ext cx="8153640" cy="30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04920"/>
                    <a:ext cx="8153640" cy="30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733920" y="2133720"/>
            <a:ext cx="0" cy="2971800"/>
          </a:xfrm>
          <a:prstGeom prst="line">
            <a:avLst/>
          </a:prstGeom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079440" y="4464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571640" y="3809520"/>
            <a:ext cx="3049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666880" y="3429000"/>
            <a:ext cx="53352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5334120"/>
            <a:ext cx="1676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5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5410080"/>
            <a:ext cx="22860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racted 5 days because quicker turn arou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5334120"/>
            <a:ext cx="22096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racted 3 days because assembly not send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952880" y="3962520"/>
            <a:ext cx="152424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206-9890-442C-B33B-CBDBEF01573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43AA9-B834-48E2-B560-B25B9E5199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228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sche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fabrication won’t take as long – 5 days turn around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ssembly will be done at the Lab, not sent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49E-38C9-4661-A7DC-60757AA6FE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14A62-E3B8-4052-ACC1-ACD2E058E9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avid Regal</dc:creator>
  <dc:description/>
  <dc:language>en-US</dc:language>
  <cp:lastModifiedBy>dave</cp:lastModifiedBy>
  <dcterms:modified xsi:type="dcterms:W3CDTF">2003-03-05T01:16:09Z</dcterms:modified>
  <cp:revision>35</cp:revision>
  <dc:subject/>
  <dc:title>Project Title</dc:title>
</cp:coreProperties>
</file>