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6AD-E242-41BE-98AA-C1418633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4C1-EE85-4619-A5E1-563CDA84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BC6-501B-4F25-BF33-F8A085BE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033-17BB-4704-94EE-C3BB1DF8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CDF-9806-4762-8AFD-AC97387A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C7B-71E6-41D7-A3C6-323514A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1C5-37EF-4885-9B2C-4DA2E9B1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676-1E08-41F9-91CA-F5DC3E47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F3C-8002-40E0-A645-0F0B9FD3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8F6-F687-482D-BA17-C2267C5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4A3-FA06-47D2-A565-A6A9ED5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702-F758-4526-AB4B-F3E1A08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F4E3-B24F-4D33-B469-647A70B598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3897-BC22-4CC0-B334-372456A4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amsx.org/course/2/logo-default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r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805-461A-47B1-9063-71A7BC573B6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790DB-8E0C-4F06-9DC2-11A167FA18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MSX Turb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sonic FS-A1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2406600"/>
            <a:ext cx="609588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2"/>
          </p:cNvPr>
          <p:cNvPicPr/>
          <p:nvPr/>
        </p:nvPicPr>
        <p:blipFill>
          <a:blip r:embed="rId3"/>
          <a:srcRect l="0" t="0" r="0" b="21226"/>
          <a:stretch/>
        </p:blipFill>
        <p:spPr>
          <a:xfrm>
            <a:off x="6781680" y="152280"/>
            <a:ext cx="1600200" cy="104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5105160" y="2057400"/>
            <a:ext cx="10666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7800" y="17892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ridge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3E8-BB2C-4F50-9299-B9F7BB4C13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4DD9F-92BE-4694-9E45-FAB849B488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1980s, the MSX computer is similar to the Atari 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7724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701-9CDD-41D5-9DA7-32BA2B818C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97566-5FCD-4B5A-9598-46900A3B38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X computers were bought and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f all the compon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out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design begun on Pr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X Turbo-R were made only in Japan and are hard to find and expensive ($5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e problem: Divided work and coordinating meeting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B63-C15B-4CD9-86CC-399670656D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C3EB8-7F22-4B3C-BF09-A7237AF4F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ks will be the focus in the coming reporting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the computers and test for fully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board design on Pro-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irst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key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s for the M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52C-6089-43FB-A49F-3A0A8357CA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4CD47-77FB-440B-AAED-1A04DE4D0E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2052720"/>
          <a:ext cx="8763120" cy="26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2720"/>
                    <a:ext cx="876312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1676520"/>
            <a:ext cx="16765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438280"/>
            <a:ext cx="0" cy="2286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1707840" y="4082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676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B8B-A732-4C5B-B3E8-86A5138D35B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FAF2F-91B4-4FDD-929D-A83F90DC74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228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09480" y="4267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ing for MSX computer to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12D-768B-4863-AA08-C316BA07B71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CE5F2-F6A7-413C-9CA3-258193C959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r. Alan D. George</dc:creator>
  <dc:description/>
  <dc:language>en-US</dc:language>
  <cp:lastModifiedBy>dave</cp:lastModifiedBy>
  <dcterms:modified xsi:type="dcterms:W3CDTF">2003-02-05T20:50:10Z</dcterms:modified>
  <cp:revision>30</cp:revision>
  <dc:subject/>
  <dc:title>Project Title</dc:title>
</cp:coreProperties>
</file>