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53C1-EEBF-4965-94B6-5D247A82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D98-E4FE-4188-B72F-31455774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9FB-81FC-4956-AC98-D996A062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0A73-0925-41F9-A517-4A0A99ED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7739-B390-4413-8353-898D115E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AE81-3BC2-45F7-A4E9-E235914A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62A0-E81B-4575-95AE-ACC92787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61F0-7AF3-4D72-B234-F823749C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057040" y="12204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2F0-3F4D-4710-87CD-74B49A76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55B6-E994-4222-A000-620EF0AC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E18F-8C7B-4771-A493-B4620E55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A2E-4003-4563-B9C6-A8058E6E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62B5-BE83-4497-B691-3114121D26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DBB9-B3C7-4A2C-AB77-4C5B6408C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109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amsx.org/course/2/logo-default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etwork Interface for the MSX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320004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Team # 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Bruno Barreyra and David Reg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15228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EEL4914 Senior Design (Sp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EAM PROGRESS REPORT 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rcRect l="0" t="0" r="0" b="21226"/>
          <a:stretch/>
        </p:blipFill>
        <p:spPr>
          <a:xfrm>
            <a:off x="2590920" y="2362320"/>
            <a:ext cx="1218960" cy="79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5DA-812E-43E2-A90C-11D935F19DF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15194-E929-4ADC-83AA-07F405818C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1828800" cy="11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7772400" cy="3581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ject Over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1523880"/>
            <a:ext cx="6477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card for the MSX, an 8-bit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X computer is similar to the Atari 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e with a computer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the Crystal CS8900, PLA, and discrete components to build a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39D-8844-40E3-B4E9-43C557BD17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0762A-D3E2-4DF6-8AA1-8FE2F3982C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gress to Da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PCB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out for 3 PC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ed to assimilate Milled P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ing Vias raised IC chip of th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bad 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overc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ing samples from Insight 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 information on driver develo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810B-83D9-44AB-84C1-B915AB47D9C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5DE5C-3D15-49D8-A496-81B2A85453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milate like cra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hallen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the card in a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ime on week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1BB-114E-451D-A757-03DD4892631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FEB8B-0A8C-49E4-9CA8-72F869D686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1676520"/>
          <a:ext cx="8305920" cy="40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305920" cy="40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dated Gantt Char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00200"/>
            <a:ext cx="8534160" cy="464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2286000"/>
            <a:ext cx="0" cy="3962520"/>
          </a:xfrm>
          <a:prstGeom prst="line">
            <a:avLst/>
          </a:prstGeom>
          <a:ln w="158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5670360" y="5302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089B-4ED0-4DA7-9874-47812D76798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532A6-E87B-45BE-BAA2-54476A43FC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all Project Statu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2281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 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head of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c900"/>
                          </a:solidFill>
                          <a:latin typeface="Arial"/>
                        </a:rPr>
                        <a:t>On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hind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0413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ind because Milled PCB could not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n week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A5BA-CB64-40EB-B5AC-A03E07A0BF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6AF96-F5ED-4EBB-AAB0-E71C102C71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8T19:12:54Z</dcterms:created>
  <dc:creator>David Regal</dc:creator>
  <dc:description/>
  <dc:language>en-US</dc:language>
  <cp:lastModifiedBy>dave</cp:lastModifiedBy>
  <dcterms:modified xsi:type="dcterms:W3CDTF">2003-04-08T22:39:57Z</dcterms:modified>
  <cp:revision>41</cp:revision>
  <dc:subject/>
  <dc:title>Project Title</dc:title>
</cp:coreProperties>
</file>