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206C-909E-492F-9313-14ACDDF99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3DD2-103F-4326-A725-C656B0F1E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90A7-F836-4DD5-B1B1-F240444B0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D6E7-6B9B-487F-9CB6-DC537A70E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0944-BD4B-4417-849B-E0B7C9F60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6ADD-02E5-4514-AD96-8FED4E87F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E40C-1B82-46ED-80D8-FE2D561A1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F252-CACB-4BD9-99C0-29DC03613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057040" y="12204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66F3-0E54-4572-B935-9765F1021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FD5A-F3F1-459F-AE68-75A19F17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0569-0DF4-49BB-8DB3-37169F61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02B5-C207-4A5B-A283-6F48844F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79B7C-95FC-4E26-B75C-3B594728A97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9D9F8-1612-4848-9DF5-2F571F98A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0880" y="152280"/>
            <a:ext cx="1447920" cy="11098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amsx.org/course/2/logo-default.png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Network Interface for the MSX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19320" y="3200040"/>
            <a:ext cx="6858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333399"/>
                </a:solidFill>
                <a:uFillTx/>
                <a:latin typeface="Arial"/>
              </a:rPr>
              <a:t>Team # 1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Bruno Barreyra and David Reg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09680" y="152280"/>
            <a:ext cx="6629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EEL4914 Senior Design (Sp200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TEAM PROGRESS REPORT #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rcRect l="0" t="0" r="0" b="21226"/>
          <a:stretch/>
        </p:blipFill>
        <p:spPr>
          <a:xfrm>
            <a:off x="2590920" y="2362320"/>
            <a:ext cx="1218960" cy="79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FB26-5B1E-4848-93BA-C1E6D49FCD5F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A25FCE-F875-4E88-9E28-E1D42879589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1828800" cy="1128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7772400" cy="3581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ject Over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66880" y="1523880"/>
            <a:ext cx="64771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hernet card for the MSX, an 8-bit comp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SX computer is similar to the Atari 8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e with a computer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the Crystal CS8900, PLA, and discrete components to build a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68A8-51EC-4A32-BF24-ED979014CEE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AFB581-F501-461F-A45C-E5EA3E207A9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gress to Dat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ed more decoding logic from MSX b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using Altera board so need digital IC p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ed digital IC part for decoding – 7432 Quad 3 input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ed to schemati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al IC 743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X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ex RJ-45 j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problems overca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ing all of the Gnatt chart in Power Point and finding percentage complet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ing the number of parts needed for de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2C59-E40D-4A5A-A13C-4B7045FF769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21C42F-A595-401C-BD2B-6493335AC78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mplete schemati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9600" t="3032" r="7040" b="2021"/>
          <a:stretch/>
        </p:blipFill>
        <p:spPr>
          <a:xfrm>
            <a:off x="228600" y="1600200"/>
            <a:ext cx="6416640" cy="4627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>
            <a:lum contrast="10000"/>
          </a:blip>
          <a:srcRect l="39615" t="22924" r="13205" b="0"/>
          <a:stretch/>
        </p:blipFill>
        <p:spPr>
          <a:xfrm>
            <a:off x="5715000" y="3352680"/>
            <a:ext cx="3276720" cy="2484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895480" y="5257800"/>
            <a:ext cx="274320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4343400" y="5181480"/>
            <a:ext cx="16002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486400" y="563868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438280" y="4572000"/>
            <a:ext cx="41911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4876920" y="39625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15720" y="4300560"/>
            <a:ext cx="71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0-p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4952880" y="3048120"/>
            <a:ext cx="335304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6172200" y="3047760"/>
            <a:ext cx="220968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D064-BCDD-47F5-B3B4-B0B638E26D0C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1B1AE1-E142-4F4E-B878-79853B337A1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urrent Work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ntory p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ering p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B footpr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challeng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footprints for parts that are not in the Protel 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ing the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7D20-486D-4B74-92D4-339F2624502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0BB891-C0A1-4FD1-AB90-87E19F0FEA0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pdated Gantt Char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1600200"/>
            <a:ext cx="8534160" cy="4648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80880" y="1600200"/>
          <a:ext cx="8382240" cy="39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382240" cy="39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3962520" y="2209680"/>
            <a:ext cx="0" cy="3962520"/>
          </a:xfrm>
          <a:prstGeom prst="line">
            <a:avLst/>
          </a:prstGeom>
          <a:ln w="158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200000">
            <a:off x="3308040" y="5225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AB7B-3BAB-4AC2-8DEE-01A147885FFD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8A27BA-E586-4CA3-885E-C80E275242C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verall Project Statu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57200" y="1600200"/>
          <a:ext cx="8229600" cy="2281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ect 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Ahead of schedu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c900"/>
                          </a:solidFill>
                          <a:latin typeface="Arial"/>
                        </a:rPr>
                        <a:t>On schedu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Behind schedu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4041360"/>
            <a:ext cx="822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d schedu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B fabrication won’t take as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ard assembly will be done at the Lab, not sent 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6F62-A1A7-4D61-BE34-EB782153920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F4A0B5-9597-4C11-88D1-0022473C7B3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8T19:12:54Z</dcterms:created>
  <dc:creator>David Regal</dc:creator>
  <dc:description/>
  <dc:language>en-US</dc:language>
  <cp:lastModifiedBy>dave</cp:lastModifiedBy>
  <dcterms:modified xsi:type="dcterms:W3CDTF">2003-03-25T16:32:28Z</dcterms:modified>
  <cp:revision>39</cp:revision>
  <dc:subject/>
  <dc:title>Project Title</dc:title>
</cp:coreProperties>
</file>