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2A7-FA31-4B16-AEE9-4C1D8432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130-C3FC-42B9-9A67-7D75EDBB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CB3-0135-402E-A3BE-B7D108F4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911-96E6-4A09-96E6-BCF05DF4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30D-862E-42D1-8A88-8C0146F6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E27-684F-4842-A213-FA13D412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136-9BA9-4DBF-A891-CCD479B9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4B5-F3C8-4A70-8CB6-0565FAFB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D16-D887-4A16-B041-EB756F5D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8F4-5072-45F5-88CF-E5920E6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9EF-B17D-42AF-AAAE-27D1732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A39-E6D3-4060-B722-F7961C2F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9055-E299-4D2B-AF17-33D91496D1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09B-9FB4-4DEB-AF6A-43B4EF4A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amsx.org/course/2/logo-default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r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0" t="0" r="0" b="21226"/>
          <a:stretch/>
        </p:blipFill>
        <p:spPr>
          <a:xfrm>
            <a:off x="2590920" y="2362320"/>
            <a:ext cx="1218960" cy="7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254-0549-481F-9294-E0B7470EACB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FCA31-C5F2-4603-A1F0-27F49F85DA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82880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7772400" cy="3581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1523880"/>
            <a:ext cx="64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card for the MSX, an 8-bit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X computer is similar to the Atari 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 with a computer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Crystal CS8900, PLA, and discrete components to build a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A65-9DB3-4141-9632-93F3679720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53FE5-499F-463F-807E-28DF02D30C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PCB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out for 3 PC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ed to assimilate Milled P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ing Vias raised IC chip of th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ad 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ver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ing samples from Insight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information on driver develo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1AC-2F20-4676-9CB6-E845DD4E04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7F835-20C2-4367-B630-20D1E2A81E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milate like cr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the card in 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ime on wee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1DE-389B-4BA1-9DA4-5309DD750E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48169-881F-4309-8BDD-E823495A99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209680"/>
            <a:ext cx="0" cy="3962520"/>
          </a:xfrm>
          <a:prstGeom prst="line">
            <a:avLst/>
          </a:prstGeom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308040" y="5225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E94-9B2F-496E-8592-0145060C648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5F2BF-C1D3-4433-9FCC-2B278614A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228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0413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sche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fabrication won’t take a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ssembly will be done at the Lab, not sent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632-BFAE-4306-9BF3-CAE712A076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C4B97-441C-4988-B870-4C08B09BCB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avid Regal</dc:creator>
  <dc:description/>
  <dc:language>en-US</dc:language>
  <cp:lastModifiedBy>dave</cp:lastModifiedBy>
  <dcterms:modified xsi:type="dcterms:W3CDTF">2003-04-08T22:36:20Z</dcterms:modified>
  <cp:revision>40</cp:revision>
  <dc:subject/>
  <dc:title>Project Title</dc:title>
</cp:coreProperties>
</file>